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B73-B911-40AF-AD90-18A8F28E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C2F-68D7-4798-B950-B3D35D70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CE4-C0A6-41B6-B222-D9891A8D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D08-7076-4CCF-A79A-F258C01D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848A-E674-4350-B567-7AA3FA4E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85FD-942A-4591-BE45-276CB6CE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A40A-B0CB-4CE9-9D3F-8FC41A41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7D94-EFC2-422C-AA6A-80D1C961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6EF3-3EB1-4AF7-8E87-946BAAE8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6DCD-9198-43E7-9965-E677FB73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3B29-E727-47E2-8228-35A08E2C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A98-4D89-4F05-8120-A70A16F2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82C5-6A44-4DE0-978A-11ACE93F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8489-DA7C-4D70-A123-55FB5A17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C038-5094-474C-987A-B915C6B3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FC38-D9D7-4B14-A0D9-308D592F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A8AA-8DC3-4B8A-8647-BD289A95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8D0-D75E-42F1-99FF-C45B470B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EDF-9E89-4D4F-AC9A-AE2B9992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204-0DD6-4A3B-97A0-F80C9A6C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522-FAA3-457F-B7BB-5B0A36E9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ED6-F90D-4916-9D1C-CD6594A4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802-BF2A-4FAA-87B1-C4CBC690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1DA-8BE6-4EE7-AAAC-FCAA1805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6058-5619-42B0-9574-222C9812313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AA6C-E1C6-44B6-A1DC-DAF59791B80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acionalni program za prevenciju raka dojk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sisitent dr sc.med. Nataša Rranči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većanj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jačanje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apaciteta zdravstvenih ustanova (opremljenosti I kadarovi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spostavljanje sistema kontrole kvaliteta iz oblasti skrining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ključivanje organa lokalne zajedni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etodologija skrining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provodi se na teritoriji cele Srbije u vidu decentralizovanog skrining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buhvataju se žene od 45-69 godin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starost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zivi se dostavljaju na kućnu adres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stiranje obuhvata: klinički pregled dojki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mamografij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Klinički pregled obavlja leka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mografsko snimanje u dve standardne projekcije: mediolateralna </a:t>
            </a: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kraniokaudal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vojno očitavanje nalaza od strane dva nezavisna radiolog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zitivan nalaz mora se saopštiti najkasnije 3 nedelje po pregledu</a:t>
            </a: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egativan nalaz, objašnjava se pregledanoj ženi i saopštava da će novi poziv dobiti za 2 godin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7d47d"/>
                </a:solidFill>
                <a:latin typeface="Arial"/>
              </a:rPr>
              <a:t>Pokretanje programa skrining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U jedinicama lokalne zajednice, program organizuju Instituti ili Zavodi za javno zdravl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Oni formiraju Radnu grupu za skrining raka dojke za teritoriju za koju su nadležn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Tim Instituta čine: epidemiolog, specijalista socijalne medicine, inforamičar, administrativni radnik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Predstavnici zdravstvenih ustanova koje će biti uključene u skrin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Predstavnici lokalne zajedni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Ova radna grupa u sardnji sa Kancelarijom za skrining pravi plan skrininga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Zakazivanje pregleda, sprovođenje pregleda, čitanje mamografskih snimaka, saopštavanje rezultata, dalje upućivanje na dijagnostiku i lečenje..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pravljanje I koordinacij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nistarstvo zdravlj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publička stručna komisija za rak dojk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ancelarija za skrining raka dojk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stitut za javno zdravlje Dr Milan Jovanović-Batu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tituti/Zavodi na teritoriji Srbi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dravstvene ustano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stituti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klinike za onkologij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stituti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klinike za radiologij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vo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ak dojke je najčešći maligni tumor kod žena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jedan od vodećih uzroka prevremene smrti kod žen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pe obolevanja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miranja su već nekoliko decenija u stalnom porast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od više od polovine žena rak se otkrije u poodmakloj faz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ast obolevanja od raka dojke registruje s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razvijenim zemljama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 zemljama u razvoj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bjašnjava se promenama u standardu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načinu život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eventivne mogućnosti su ograničene, aktivnosti su usmerene na rano otkrivanj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anjivanje smrtnost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ahvaljujući skriningu u većini razvijenih zemalja beleži se pad smrtnosti u poslednjoj decenij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pidemiološka situacija u Republici Srbij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ajčešći maligni tumor kod žen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vake godine registruje se 4000 novoobolelih žen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pe incidencij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mortaliteta su stalnom porast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d 1970. stopa incidencije povećala se 4 puta, sa 10 na 100 000 kod žena starosti 40. godina (2004.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ao uzrok smrti kod žena starosti 45-69 godina, rak dojke je na trećem mestu iza mozdanog udara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shemijske bolesti src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 trenutku otkrivanja raka kod više od polovine žena on je već u III stadijumu (metastaze u regionalne limfne žlezde ili u kožu ili metastaze u udaljene organe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o kod 30% žena tumor je u momentu otkrivanaj manji od 2 c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od većine žena tumor se otkriva u operabilno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stadijumu. Tada se rade radikalne hirurške intervencije, a procenat poštednih operacija 20-45%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ljevi progra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snovni cilj programa je: otkrivanje raka dojke u što ranijem stadijumu kako bi se preduzelo lečenj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anjila smrtnos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anjio invalidite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boljšao kvaliteta živo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pecifični ciljevi progra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dizanje svesti žen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o potrebi ranih pregled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stizanje visokog obuhvata (bar 70% od ciljane populacij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bezbeđivanje adekvatne dijagnostik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lečenj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bezbeđivanje podrške drža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finisanje uloge ustanova u nivu prevenci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09:02Z</dcterms:created>
  <dc:creator>AZURE</dc:creator>
  <dc:description/>
  <dc:language>en-US</dc:language>
  <cp:lastModifiedBy>Intel</cp:lastModifiedBy>
  <dcterms:modified xsi:type="dcterms:W3CDTF">2011-04-11T10:03:37Z</dcterms:modified>
  <cp:revision>17</cp:revision>
  <dc:subject/>
  <dc:title>Nacionalni program za prevenciju raka dojke</dc:title>
</cp:coreProperties>
</file>